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112A-15BA-41A6-ADA0-489BB3275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URN can be generated based on th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structure. By using URN's internally of DDI instances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DDI instances items can be referenced beyond the hierarchic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XML. This way a DDI instance is prepared to live in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al metadata struc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3EA9-630C-43E3-B20C-600E7F54BE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dentification sections in the XML fragments can cause som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: why does the identification a complex structu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t can be mentioned that an URN can be generated based on th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structure. By using URN's internally of DDI instances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DDI instances items can be referenced beyond the hierarchic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XML. This way a DDI instance is prepared to live in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al metadata struc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92C0-FF37-46C8-9104-E20DAC663B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event can trigger actions in multiple output streams as shown here. An output stream can be understood as a buffer which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ten asynchronously to a fi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AAAC-393A-4C9F-B8A2-AA1E07CAE8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24EC-E1BC-496A-9FC9-FE31EB4B28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ditional codebook is targeted for human-reading and is mainly restricted to variable/category information (like available in statistical packages like SA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S-Word can read a paragraph, this is machine-readable. But it cannot understand the purpose of a specific paragraph, this would me machine-action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hine-actionable processing means that information items cannot only be read but "understood" by a program. For example the program knows that a information item is a variable label, an abstract for a study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chine-actionable metadata structure enables various processing of the metadata to combine metadata parts in various combination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debook, web-based information system, web service for a variable bank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F16B-AEB5-400F-B425-0F76C0FEB2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DDI after "XML based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work since 1995, first public release 2000 as data archive-centri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sion. Now version 3.0 available as candidate draft, plann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cation in Ju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2264-EB13-4714-B99E-5074EDCABE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C37BF-3427-424B-9429-6F7C0A5B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F55F3-D053-4848-9330-D14F6604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61A42-8553-4741-93B2-2B7B7A3C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471CF-0B2F-4F97-9F62-126C66D2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1BB9F-0200-43BF-B2EB-70B8851E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2A278-DEDA-4381-8F4D-637855B5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7F394-2A65-44BC-831A-93D98A88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D327C-F89F-4905-AC7A-803E6F6B1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B14B9-9E28-4598-A92B-DF130D564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E797F-AD1E-4F26-A8BC-5A6EF799C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72BBF6-A771-49E2-A76A-8013E1C5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58EA72-44E7-4F23-856A-45A9B45C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8AE358-9ADD-4CE5-936E-72441355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36B55F-64D7-4845-850E-297113D2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3B4B09-D78A-4BDE-8C0F-618AD2AF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5C7779-A41D-4290-B18A-FE36B968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508750-C20F-484F-A905-106A2054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580D0D-73C9-46DF-9FE7-9291ED33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09B83-F36A-47AB-B532-7DB3A8E0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8BCF5E-410E-4DEC-8CC8-678B64382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100A4B-FB1A-414C-AE1A-A16CC7505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CE9026-1584-4BAF-8FD6-7257D1D7D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DD64F5-CD3C-45E6-9809-7261DB84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1F2317-B920-4C47-8FE8-B102D436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B0D25F-4A09-481E-B85C-151431FC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C44A55-C722-421C-9355-B924C269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9FD667-566D-4DA3-9996-2EBDF86E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C4C218-F2BC-46A0-B625-335BA201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DA1DAB-A8BE-4330-AB6B-B0BD9164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D0DD64-3D6E-4445-9017-787F8AEF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47B2-11EF-4F25-9489-B58AF9CF6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625F05-EC47-452E-9A73-44B50634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19773B-799B-48FA-990A-988B985BD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117CB4-0757-48AC-B0CB-2B0FB89B4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BC989-B691-4027-8AEF-D927900E5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C13FB7-81BB-49D4-AAAB-83384115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186FEF-26B0-4D86-BA36-7EA5DAAE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56A49-00E5-4144-A89B-5C2B1365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238B6-BC32-4F85-BCD4-7B2E9EB4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21F5E0-D049-4412-925C-6EA6BCB5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5A4F7-EB9B-4167-AEF6-1201B0FE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7FF0-8DC5-4F34-8684-2B9EE234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79BD4E-1913-463F-B0C8-52E9B54B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A2FA64-19CD-4883-BE01-BD1E5F30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EB02B6-C01B-4D2E-B227-F693F29F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C508E-9EE3-4008-8233-A8D694859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75B18-A54D-49F6-B755-B0D797171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DCF9-1D48-42E5-95B9-1BAE186A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1E66-C6FC-477A-99C8-004433ED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6C89-D867-450B-931C-55C454B9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6A6F-B539-4EF0-9021-1CDF223C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4B30-35F3-4711-B61A-137BB2AA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2AC2-CF24-4A18-8A70-E9E45E7B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4F8F-0E58-480F-9F06-2A96E806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8F56-4254-4849-A0A5-58D8292E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8B5E-CF2C-473C-929F-89EDA29BB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53CD-B325-405B-A630-A39AA905B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CF334-76C7-4093-AF65-B9FEE2856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87AB7-9732-4E7A-A975-C6C139FC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EC9AA-CA2B-46B9-9926-CDA895EB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92F651-4908-4D5C-9CAD-13CAFAB8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12841-D881-4900-AD64-1BE0B55E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3E6C29-8B41-452E-8650-A4A9ED84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BEFE4A-0007-4979-84F8-30350CF4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010EB-EEFA-4538-B92C-D36D0EB2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7D929-28B0-4928-82A5-AB76E81F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0B132E-3F2B-4BA0-8068-5CEAFD6D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25255F-16F4-42CA-883C-B2B62E220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D321B6-FE20-4AD2-9B8A-623733817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D1C3F-7AA4-43E1-A9D7-9C2A3CE83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54E58-A5EA-4E69-B6DA-62FE665E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01A14-AFC4-48D9-A734-5403B245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8665C-ED5B-432F-98A1-CE8BC8D9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E9A61-6DD0-4731-86C9-97FC8F27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B4167-D56C-4C0D-AE06-46B1D332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61B7D-7025-483B-BD60-63F697BA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C97F1-DC26-44C2-98FF-868A776A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E0F91-D62C-4D19-ADE9-1CF7F45E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A58C1-0879-49FC-ACDE-AA18708B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96BF6-D979-4FBD-907A-CC5B35209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9F667-9F89-4102-AD3E-6D8D16A7D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F53A0-F083-4BAC-94C8-799FA0E78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2C32C-15C3-4B20-BBCB-44ABDCC4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50A48-A4D1-4C43-8EAF-1AC3369A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63A48-3D06-4CAD-A7BE-24939E68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40963-A24A-4977-AB56-99ADCE89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4D95D-3257-4F3A-9DAE-B0ED9A70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D9A30-8D12-486C-B887-AE568BDD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8C6DF-EEE4-40E4-A228-EAB1C822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6A2AF-D3B0-4C3C-B454-68F2366B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9C8A5-24BE-45A8-B951-9D6E768C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0DEEF-57B8-47F1-8BC6-F7717F192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19674-952C-413E-A531-58008A3E5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B4E05-B12D-4A2C-AA24-E7B20CB28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C1607-38E4-40B9-AC5D-FF37B399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F26C5-13DC-4249-B1DA-0B33678C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01A4A-138D-44FF-B3D6-8C5626AA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C8326-6677-47FA-B2FC-E713E865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3152D-40E7-4505-BABD-3DB38949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4884A-1346-4D9E-915F-00F8321C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AEBA2-6A29-49EB-A8CF-9668A914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6E563-DF21-428E-A950-B053D582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FEFC4-7DBD-4301-AF4F-01AB76FA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B4EA4-36DF-4010-A269-769DB5675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5235D-6008-4603-8EA6-959F3E985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1D828-11AB-4284-9D57-56BB723A5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99591-8DF5-4841-8FCA-763D4521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BEFE2-9020-4ACA-A4DF-18A33416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5C17A-5979-45BF-A705-1DB39DAE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30557-88A1-41FD-9EC1-06F63FAA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FDA1E-FAFB-4D98-9F5D-4A06EE7C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87EAB-F335-4244-B1AA-F6C40854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D3307-227A-4875-A14E-B3530308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20FD0-9C6C-4A9C-8E80-E15E7302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DA3D8-8902-4D1B-B810-E6DC0CAB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C83FD-74DB-4C50-922D-3C4FD8F6F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1DDC9-C300-431C-AE4B-5C4AAB9ED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9AF17-5954-41A5-97A3-2F7E26363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2DCB2-ACF3-4723-AE77-19964ACD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39271-5DC8-47D1-A1A8-2920A4E7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BA3F2-D987-490F-8719-C21FE3B7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B13D5-741E-4D84-B476-19D770B7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0AACF-7A67-4DAF-A9B5-DFD2AA06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25531-9A3C-4FBF-97E2-F558E8EB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6C3EC-81BB-4E50-8029-1010D173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B2874-FAE8-401C-AD23-E4CD5EC8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CE799-F1ED-40DF-BCB1-E27A811E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0F166-580F-4789-90C4-C5B8E3CE5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8EF51-8B35-43EB-B73A-23E339C50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46846-79D5-41A9-95EC-1D84437D7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5A9D6-DA29-4CF4-877A-F6D85201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14DCC-6F43-4A76-BE3B-780EC5AB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ff761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6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ff761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167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2437920" y="6356520"/>
            <a:ext cx="4343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GF Paper 137-2008, Hoyle and Wacke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858000" y="635652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099F-0E3A-4100-968F-1AAFF113DC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6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ff761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167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9"/>
          </p:nvPr>
        </p:nvSpPr>
        <p:spPr>
          <a:xfrm>
            <a:off x="2437920" y="6356520"/>
            <a:ext cx="4343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GF Paper 137-2008, Hoyle and Wacke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0"/>
          </p:nvPr>
        </p:nvSpPr>
        <p:spPr>
          <a:xfrm>
            <a:off x="6858000" y="635652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9628-4732-4F2F-BDE7-581E6D54DA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6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ff761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167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2437920" y="6356520"/>
            <a:ext cx="4343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GF Paper 137-2008, Hoyle and Wacke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6858000" y="635652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E2A7-8A37-4F9D-B76D-ADD8817453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6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ff761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167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8 March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2437920" y="6356520"/>
            <a:ext cx="4343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Asssit, Joachim Wackerow and Larry Hoy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858000" y="635652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DC0D-ED80-4EE7-B73F-A10EEE69AA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ff761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4"/>
          </p:nvPr>
        </p:nvSpPr>
        <p:spPr>
          <a:xfrm>
            <a:off x="2437920" y="6356520"/>
            <a:ext cx="4343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Asssit, Joachim Wackerow and Larry Hoy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5"/>
          </p:nvPr>
        </p:nvSpPr>
        <p:spPr>
          <a:xfrm>
            <a:off x="6858000" y="635652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CE44-19A7-488D-B747-D515BB6E0B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6"/>
          </p:nvPr>
        </p:nvSpPr>
        <p:spPr>
          <a:xfrm>
            <a:off x="151920" y="6324120"/>
            <a:ext cx="1676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8 March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ff761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167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2437920" y="6356520"/>
            <a:ext cx="4343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GF Paper 137-2008, Hoyle and Wacke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6858000" y="635652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B978-9E83-4BE3-BC34-081F7F7694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ff761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167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8 March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1"/>
          </p:nvPr>
        </p:nvSpPr>
        <p:spPr>
          <a:xfrm>
            <a:off x="2437920" y="6356520"/>
            <a:ext cx="4343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Asssit, Joachim Wackerow and Larry Hoy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2"/>
          </p:nvPr>
        </p:nvSpPr>
        <p:spPr>
          <a:xfrm>
            <a:off x="6858000" y="635652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4F2E4-709C-4490-BBB5-9BC60EECFD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ff761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167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2437920" y="6356520"/>
            <a:ext cx="4343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GF Paper 137-2008, Hoyle and Wacke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6858000" y="635652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E9F6-8B21-4E50-AC03-B05A36D0CC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6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ff761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167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8 March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2437920" y="6356520"/>
            <a:ext cx="4343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Asssit, Joachim Wackerow and Larry Hoy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6858000" y="635652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E687-7F82-4BF4-BB51-53B3D749CA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6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ff761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167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0"/>
          </p:nvPr>
        </p:nvSpPr>
        <p:spPr>
          <a:xfrm>
            <a:off x="2437920" y="6356520"/>
            <a:ext cx="4343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GF Paper 137-2008, Hoyle and Wacke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1"/>
          </p:nvPr>
        </p:nvSpPr>
        <p:spPr>
          <a:xfrm>
            <a:off x="6858000" y="635652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E8D0-4E40-4DBF-BFE0-1092D220DB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6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ff761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167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2437920" y="6356520"/>
            <a:ext cx="4343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GF Paper 137-2008, Hoyle and Wacke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6858000" y="635652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68F6-E983-4702-AFC6-F95F3CCDDB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7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7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7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7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7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7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7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ddialliance.org/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0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orting SAS Datasets to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DI 3 XML file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ata, Metadata, and More Meta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arry Hoyle, 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Institute for Policy and Social Research, University of Kans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oachim Wackerow, 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GESIS-ZUMA </a:t>
            </a:r>
            <a:br>
              <a:rPr sz="2000"/>
            </a:b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(Centre for Survey Research and Methodology, </a:t>
            </a:r>
            <a:br>
              <a:rPr sz="2000"/>
            </a:b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German Social Science Infrastructure Servic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Footer Placeholder 3"/>
          <p:cNvSpPr/>
          <p:nvPr/>
        </p:nvSpPr>
        <p:spPr>
          <a:xfrm>
            <a:off x="2438280" y="6356520"/>
            <a:ext cx="4343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sssit, Joachim Wackerow and Larry Ho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DI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etadata capture from planning and production to dissemination and analysi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n underlying data model that permits the expression of the model in alternative technologi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verage of more of the data life cycle, with an emphasis on data collec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odular desig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nhanced support for multiple languag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upport for variable comparison and harmoniz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tructured mechanisms for identification and versioning that enable the creation of registries like question bank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re HTML for formatting of unstructured tex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Footer Placeholder 3"/>
          <p:cNvSpPr/>
          <p:nvPr/>
        </p:nvSpPr>
        <p:spPr>
          <a:xfrm>
            <a:off x="2438280" y="6356520"/>
            <a:ext cx="4343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sssit, Joachim Wackerow and Larry Ho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re DDI Featur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limination of redundancies through a new grouping model and an extensive set of reusable elem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rouping of study series for longitudinal and comparative research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pturing comparative information for the creation of harmonized data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O/IEC 11179 compliant data registries such as question, variable, and concept bank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pability to create "DDI profiles" for specific u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chanism to carry data inli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ignment with other metadata standards, including Dublin Core (cross-domain information resource description), SDMX (time-series data), ISO/IEC 11179 (metadata registry), and FGDC and ISO 19115 (geographic standard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tensibil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Footer Placeholder 3"/>
          <p:cNvSpPr/>
          <p:nvPr/>
        </p:nvSpPr>
        <p:spPr>
          <a:xfrm>
            <a:off x="2438280" y="6356520"/>
            <a:ext cx="4343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sssit, Joachim Wackerow and Larry Ho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10" descr=""/>
          <p:cNvPicPr/>
          <p:nvPr/>
        </p:nvPicPr>
        <p:blipFill>
          <a:blip r:embed="rId1"/>
          <a:srcRect l="4209" t="36253" r="46838" b="18205"/>
          <a:stretch/>
        </p:blipFill>
        <p:spPr>
          <a:xfrm>
            <a:off x="0" y="3741840"/>
            <a:ext cx="3711600" cy="258264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117760" y="188640"/>
            <a:ext cx="40258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ntral DDI Mod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Footer Placeholder 2"/>
          <p:cNvSpPr/>
          <p:nvPr/>
        </p:nvSpPr>
        <p:spPr>
          <a:xfrm>
            <a:off x="2438280" y="6356520"/>
            <a:ext cx="4343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sssit, Joachim Wackerow and Larry Ho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Picture 2" descr=""/>
          <p:cNvPicPr/>
          <p:nvPr/>
        </p:nvPicPr>
        <p:blipFill>
          <a:blip r:embed="rId2"/>
          <a:srcRect l="2249" t="26885" r="12277" b="23062"/>
          <a:stretch/>
        </p:blipFill>
        <p:spPr>
          <a:xfrm>
            <a:off x="0" y="577800"/>
            <a:ext cx="5286240" cy="25052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9" descr=""/>
          <p:cNvPicPr/>
          <p:nvPr/>
        </p:nvPicPr>
        <p:blipFill>
          <a:blip r:embed="rId3"/>
          <a:srcRect l="4307" t="29579" r="13189" b="36135"/>
          <a:stretch/>
        </p:blipFill>
        <p:spPr>
          <a:xfrm>
            <a:off x="3479760" y="4476600"/>
            <a:ext cx="5664240" cy="176076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8" descr=""/>
          <p:cNvPicPr/>
          <p:nvPr/>
        </p:nvPicPr>
        <p:blipFill>
          <a:blip r:embed="rId4"/>
          <a:srcRect l="4304" t="30047" r="26696" b="25405"/>
          <a:stretch/>
        </p:blipFill>
        <p:spPr>
          <a:xfrm>
            <a:off x="5002200" y="2774880"/>
            <a:ext cx="4141800" cy="2000160"/>
          </a:xfrm>
          <a:prstGeom prst="rect">
            <a:avLst/>
          </a:prstGeom>
          <a:ln w="0">
            <a:noFill/>
          </a:ln>
        </p:spPr>
      </p:pic>
      <p:cxnSp>
        <p:nvCxnSpPr>
          <p:cNvPr id="548" name="Straight Arrow Connector 10"/>
          <p:cNvCxnSpPr/>
          <p:nvPr/>
        </p:nvCxnSpPr>
        <p:spPr>
          <a:xfrm>
            <a:off x="4319640" y="3152520"/>
            <a:ext cx="821520" cy="46404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9" name="Straight Arrow Connector 14"/>
          <p:cNvCxnSpPr/>
          <p:nvPr/>
        </p:nvCxnSpPr>
        <p:spPr>
          <a:xfrm>
            <a:off x="4056480" y="3131640"/>
            <a:ext cx="747000" cy="154548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0" name="Straight Arrow Connector 22"/>
          <p:cNvCxnSpPr/>
          <p:nvPr/>
        </p:nvCxnSpPr>
        <p:spPr>
          <a:xfrm flipH="1">
            <a:off x="2910960" y="3143160"/>
            <a:ext cx="767520" cy="91512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8" descr=""/>
          <p:cNvPicPr/>
          <p:nvPr/>
        </p:nvPicPr>
        <p:blipFill>
          <a:blip r:embed="rId1"/>
          <a:stretch/>
        </p:blipFill>
        <p:spPr>
          <a:xfrm>
            <a:off x="4998960" y="2567160"/>
            <a:ext cx="4151520" cy="201132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6" descr=""/>
          <p:cNvPicPr/>
          <p:nvPr/>
        </p:nvPicPr>
        <p:blipFill>
          <a:blip r:embed="rId2"/>
          <a:stretch/>
        </p:blipFill>
        <p:spPr>
          <a:xfrm>
            <a:off x="-6480" y="3333600"/>
            <a:ext cx="3687840" cy="258624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7" descr=""/>
          <p:cNvPicPr/>
          <p:nvPr/>
        </p:nvPicPr>
        <p:blipFill>
          <a:blip r:embed="rId3"/>
          <a:stretch/>
        </p:blipFill>
        <p:spPr>
          <a:xfrm>
            <a:off x="3444840" y="4327560"/>
            <a:ext cx="5705640" cy="1781280"/>
          </a:xfrm>
          <a:prstGeom prst="rect">
            <a:avLst/>
          </a:prstGeom>
          <a:ln w="0">
            <a:noFill/>
          </a:ln>
        </p:spPr>
      </p:pic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117760" y="0"/>
            <a:ext cx="4025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y U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Footer Placeholder 2"/>
          <p:cNvSpPr/>
          <p:nvPr/>
        </p:nvSpPr>
        <p:spPr>
          <a:xfrm>
            <a:off x="2438280" y="6356520"/>
            <a:ext cx="4343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sssit, Joachim Wackerow and Larry Ho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6" name="Picture 2" descr=""/>
          <p:cNvPicPr/>
          <p:nvPr/>
        </p:nvPicPr>
        <p:blipFill>
          <a:blip r:embed="rId4"/>
          <a:srcRect l="2249" t="26885" r="12277" b="23062"/>
          <a:stretch/>
        </p:blipFill>
        <p:spPr>
          <a:xfrm>
            <a:off x="0" y="682560"/>
            <a:ext cx="8742240" cy="41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6" descr=""/>
          <p:cNvPicPr/>
          <p:nvPr/>
        </p:nvPicPr>
        <p:blipFill>
          <a:blip r:embed="rId1"/>
          <a:stretch/>
        </p:blipFill>
        <p:spPr>
          <a:xfrm>
            <a:off x="-6480" y="3333600"/>
            <a:ext cx="3687840" cy="258624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7" descr=""/>
          <p:cNvPicPr/>
          <p:nvPr/>
        </p:nvPicPr>
        <p:blipFill>
          <a:blip r:embed="rId2"/>
          <a:stretch/>
        </p:blipFill>
        <p:spPr>
          <a:xfrm>
            <a:off x="3444840" y="4327560"/>
            <a:ext cx="5705640" cy="178128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117760" y="0"/>
            <a:ext cx="402588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Colle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Footer Placeholder 2"/>
          <p:cNvSpPr/>
          <p:nvPr/>
        </p:nvSpPr>
        <p:spPr>
          <a:xfrm>
            <a:off x="2438280" y="6356520"/>
            <a:ext cx="4343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sssit, Joachim Wackerow and Larry Ho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1" name="Picture 2" descr=""/>
          <p:cNvPicPr/>
          <p:nvPr/>
        </p:nvPicPr>
        <p:blipFill>
          <a:blip r:embed="rId3"/>
          <a:stretch/>
        </p:blipFill>
        <p:spPr>
          <a:xfrm>
            <a:off x="-6480" y="676440"/>
            <a:ext cx="5297760" cy="251748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8" descr=""/>
          <p:cNvPicPr/>
          <p:nvPr/>
        </p:nvPicPr>
        <p:blipFill>
          <a:blip r:embed="rId4"/>
          <a:srcRect l="4304" t="30047" r="26696" b="25405"/>
          <a:stretch/>
        </p:blipFill>
        <p:spPr>
          <a:xfrm>
            <a:off x="154080" y="1440000"/>
            <a:ext cx="8989920" cy="43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6" descr=""/>
          <p:cNvPicPr/>
          <p:nvPr/>
        </p:nvPicPr>
        <p:blipFill>
          <a:blip r:embed="rId1"/>
          <a:stretch/>
        </p:blipFill>
        <p:spPr>
          <a:xfrm>
            <a:off x="-6480" y="3333600"/>
            <a:ext cx="3687840" cy="258624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117760" y="0"/>
            <a:ext cx="4025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Logical Product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Modul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Footer Placeholder 2"/>
          <p:cNvSpPr/>
          <p:nvPr/>
        </p:nvSpPr>
        <p:spPr>
          <a:xfrm>
            <a:off x="2438280" y="6356520"/>
            <a:ext cx="4343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sssit, Joachim Wackerow and Larry Ho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6" name="Picture 2" descr=""/>
          <p:cNvPicPr/>
          <p:nvPr/>
        </p:nvPicPr>
        <p:blipFill>
          <a:blip r:embed="rId2"/>
          <a:stretch/>
        </p:blipFill>
        <p:spPr>
          <a:xfrm>
            <a:off x="-6480" y="676440"/>
            <a:ext cx="5297760" cy="25174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3" descr=""/>
          <p:cNvPicPr/>
          <p:nvPr/>
        </p:nvPicPr>
        <p:blipFill>
          <a:blip r:embed="rId3"/>
          <a:stretch/>
        </p:blipFill>
        <p:spPr>
          <a:xfrm>
            <a:off x="5005440" y="2577960"/>
            <a:ext cx="3973320" cy="192744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2" descr=""/>
          <p:cNvPicPr/>
          <p:nvPr/>
        </p:nvPicPr>
        <p:blipFill>
          <a:blip r:embed="rId4"/>
          <a:srcRect l="4209" t="32605" r="36416" b="15227"/>
          <a:stretch/>
        </p:blipFill>
        <p:spPr>
          <a:xfrm>
            <a:off x="1030320" y="996840"/>
            <a:ext cx="8113680" cy="533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7" descr=""/>
          <p:cNvPicPr/>
          <p:nvPr/>
        </p:nvPicPr>
        <p:blipFill>
          <a:blip r:embed="rId1"/>
          <a:stretch/>
        </p:blipFill>
        <p:spPr>
          <a:xfrm>
            <a:off x="3444840" y="4327560"/>
            <a:ext cx="5705640" cy="178128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117760" y="0"/>
            <a:ext cx="4025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Physical Storage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Modul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Footer Placeholder 2"/>
          <p:cNvSpPr/>
          <p:nvPr/>
        </p:nvSpPr>
        <p:spPr>
          <a:xfrm>
            <a:off x="2438280" y="6356520"/>
            <a:ext cx="4343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sssit, Joachim Wackerow and Larry Ho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2" name="Picture 2" descr=""/>
          <p:cNvPicPr/>
          <p:nvPr/>
        </p:nvPicPr>
        <p:blipFill>
          <a:blip r:embed="rId2"/>
          <a:stretch/>
        </p:blipFill>
        <p:spPr>
          <a:xfrm>
            <a:off x="-6480" y="676440"/>
            <a:ext cx="5297760" cy="251748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3" descr=""/>
          <p:cNvPicPr/>
          <p:nvPr/>
        </p:nvPicPr>
        <p:blipFill>
          <a:blip r:embed="rId3"/>
          <a:stretch/>
        </p:blipFill>
        <p:spPr>
          <a:xfrm>
            <a:off x="5005440" y="2577960"/>
            <a:ext cx="3973320" cy="192744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0" descr=""/>
          <p:cNvPicPr/>
          <p:nvPr/>
        </p:nvPicPr>
        <p:blipFill>
          <a:blip r:embed="rId4"/>
          <a:srcRect l="4209" t="36253" r="46838" b="18205"/>
          <a:stretch/>
        </p:blipFill>
        <p:spPr>
          <a:xfrm>
            <a:off x="0" y="841320"/>
            <a:ext cx="7881840" cy="548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rom SAS Dataset to DDI Fi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wo Approach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approa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 steps and PROCS wrapped in mac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gset for ODS (Output Delivery Syste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r writ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DS with default tagset plus XSLT trans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th need to gather meta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Footer Placeholder 3"/>
          <p:cNvSpPr/>
          <p:nvPr/>
        </p:nvSpPr>
        <p:spPr>
          <a:xfrm>
            <a:off x="2438280" y="6356520"/>
            <a:ext cx="4343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sssit, Joachim Wackerow and Larry Ho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rom SAS Dataset to DDI Fi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athering the Meta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AS dataset contains data (of cours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also contains a mix of technical and business meta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bels: dataset and vari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mats: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ink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native and user forma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grity constra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Footer Placeholder 3"/>
          <p:cNvSpPr/>
          <p:nvPr/>
        </p:nvSpPr>
        <p:spPr>
          <a:xfrm>
            <a:off x="2438280" y="6356520"/>
            <a:ext cx="4343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sssit, Joachim Wackerow and Larry Ho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Join information from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228240" y="6854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CTIONARY.COLUM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ame, length, type, Fmtname, informat, precision, scale, sortedby, idxusage, notnul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 FORMAT,  CNTLOUT datas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formation from formats – ranges and lab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mat documentation dataset (coded in progra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presents  e.g. Currency-eur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rmatDocumentation e.g. Writes numeric values with a leading euro symbol (E), a comma that separates every three digits, and a period that separates the decimal frac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 Cont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tegrity constraints – type, variables, whereClause, ForeignReference, OnDelete, OnUpda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CTIONARY.CONSTRAINT_COLUMN_US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lumn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CTIONARY.T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mlabel, crdate, modate, nobs, nvar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datas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Footer Placeholder 3"/>
          <p:cNvSpPr/>
          <p:nvPr/>
        </p:nvSpPr>
        <p:spPr>
          <a:xfrm>
            <a:off x="2438280" y="6356520"/>
            <a:ext cx="4343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sssit, Joachim Wackerow and Larry Ho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would you do with these dat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f this were all you were give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M1            .11100029feb5211:49Joe &lt;In the know&gt; Schm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M6.021e23     .21000001jan7214:01Bill Hil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F6.02214139e23.30900008jun8505:25Donna O'Fau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4M6.02214149e23.40800025dec6401:23Rob "Bob" Cob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5m6.02214159e23.50700015mar7515:15Tom Applebau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6f6.02214179e23.60600005jun0708:09Louise Mac&amp;Chee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7m6.02214209e23.70500011nov1111:11Jack Blac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8F6.02214219e23.80400001jan7214:04Jill Hil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9m-3           .90300001apr9903:03Gno Avocad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Footer Placeholder 3"/>
          <p:cNvSpPr/>
          <p:nvPr/>
        </p:nvSpPr>
        <p:spPr>
          <a:xfrm>
            <a:off x="2438280" y="6356520"/>
            <a:ext cx="4343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sssit, Joachim Wackerow and Larry Ho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abel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ySASdata(label='Test Data for SAS to DDI 3 program'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bel avocado = 'Number of avacados'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bel sex = 'Respondant''s Gender'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bel percentTime = 'Percent of time counting Avacados'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bel fee = 'Fee in Euros'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Footer Placeholder 3"/>
          <p:cNvSpPr/>
          <p:nvPr/>
        </p:nvSpPr>
        <p:spPr>
          <a:xfrm>
            <a:off x="2438280" y="6356520"/>
            <a:ext cx="4343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sssit, Joachim Wackerow and Larry Ho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mats – native SAS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at percentTime percent8.1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 proportion to be displayed as a perc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at fee EUROX10.2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lso tells us fee is in Eu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at DOB IS8601DA.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umber of days since January 1, 196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at TOB IS8601TM.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conds since midnight of the current 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Footer Placeholder 3"/>
          <p:cNvSpPr/>
          <p:nvPr/>
        </p:nvSpPr>
        <p:spPr>
          <a:xfrm>
            <a:off x="2438280" y="6356520"/>
            <a:ext cx="4343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sssit, Joachim Wackerow and Larry Ho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mats - us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7200" y="12949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at avocado avocadoNumber.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ue avocadoNu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w-&lt;0 = 'avocados owed'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= 'lonley avocado'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&lt;-6.02214149e23 = 'too few avocados'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.02214149e23-6.02214209e23 =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'guaca mo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.02214209e23&lt;-high = 'a party'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Footer Placeholder 3"/>
          <p:cNvSpPr/>
          <p:nvPr/>
        </p:nvSpPr>
        <p:spPr>
          <a:xfrm>
            <a:off x="2438280" y="6356520"/>
            <a:ext cx="4343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sssit, Joachim Wackerow and Larry Ho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TextBox 4"/>
          <p:cNvSpPr/>
          <p:nvPr/>
        </p:nvSpPr>
        <p:spPr>
          <a:xfrm>
            <a:off x="5334120" y="47242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(tells us someone likes a bad pu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4" name="Straight Arrow Connector 6"/>
          <p:cNvCxnSpPr/>
          <p:nvPr/>
        </p:nvCxnSpPr>
        <p:spPr>
          <a:xfrm flipH="1" flipV="1">
            <a:off x="6248160" y="4343040"/>
            <a:ext cx="762480" cy="457920"/>
          </a:xfrm>
          <a:prstGeom prst="straightConnector1">
            <a:avLst/>
          </a:prstGeom>
          <a:ln w="50760">
            <a:solidFill>
              <a:srgbClr val="ff7617"/>
            </a:solidFill>
            <a:miter/>
            <a:tailEnd len="med" type="triangle" w="med"/>
          </a:ln>
        </p:spPr>
      </p:cxnSp>
      <p:grpSp>
        <p:nvGrpSpPr>
          <p:cNvPr id="595" name="Group 13"/>
          <p:cNvGrpSpPr/>
          <p:nvPr/>
        </p:nvGrpSpPr>
        <p:grpSpPr>
          <a:xfrm>
            <a:off x="0" y="2742840"/>
            <a:ext cx="4343400" cy="2579040"/>
            <a:chOff x="0" y="2742840"/>
            <a:chExt cx="4343400" cy="2579040"/>
          </a:xfrm>
        </p:grpSpPr>
        <p:sp>
          <p:nvSpPr>
            <p:cNvPr id="596" name="TextBox 7"/>
            <p:cNvSpPr/>
            <p:nvPr/>
          </p:nvSpPr>
          <p:spPr>
            <a:xfrm>
              <a:off x="0" y="4953600"/>
              <a:ext cx="434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Labels ranges of dat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97" name="Straight Arrow Connector 11"/>
            <p:cNvCxnSpPr/>
            <p:nvPr/>
          </p:nvCxnSpPr>
          <p:spPr>
            <a:xfrm flipV="1">
              <a:off x="304560" y="2742840"/>
              <a:ext cx="457920" cy="2134800"/>
            </a:xfrm>
            <a:prstGeom prst="straightConnector1">
              <a:avLst/>
            </a:prstGeom>
            <a:ln w="38160">
              <a:solidFill>
                <a:srgbClr val="f79646"/>
              </a:solidFill>
              <a:miter/>
              <a:tailEnd len="med" type="triangle" w="med"/>
            </a:ln>
          </p:spPr>
        </p:cxnSp>
      </p:grp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mats – there might also be extraneous user forma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lue sexAl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0 = 'Young Male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1 = 'Adult Male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2 = 'Young Female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3 = 'Adult Female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lue sex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0 = 'Male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1 = 'Male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2 = 'Female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3 = 'Female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/* format BMI is not used and is here to be ignored later */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lue BM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low-&lt;18.5 =  "Underweight"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18.5-24.9 =  "Normal weight"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25-29.9 =  "Overweight"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30-high =  "Obesity"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Footer Placeholder 3"/>
          <p:cNvSpPr/>
          <p:nvPr/>
        </p:nvSpPr>
        <p:spPr>
          <a:xfrm>
            <a:off x="2438280" y="6356520"/>
            <a:ext cx="4343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sssit, Joachim Wackerow and Larry Ho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grity Constra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 constraint prim_key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rimary ke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id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 constraint DOB_present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Not Nul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DOB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 constraint id_GT_0 check(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d GT 0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ives us information about valid ran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 constraint sex_MF check(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ex in (.,1,2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 constraint avocado_uniqu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Uniqu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avocado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 constraint name_fkey foreign key(name)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references work.RealPeople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valid values come from another t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Footer Placeholder 3"/>
          <p:cNvSpPr/>
          <p:nvPr/>
        </p:nvSpPr>
        <p:spPr>
          <a:xfrm>
            <a:off x="2438280" y="6356520"/>
            <a:ext cx="4343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sssit, Joachim Wackerow and Larry Ho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 Step Appro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ML is just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step can write text to a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ic XML structure, known sche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ent from SAS vari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Footer Placeholder 3"/>
          <p:cNvSpPr/>
          <p:nvPr/>
        </p:nvSpPr>
        <p:spPr>
          <a:xfrm>
            <a:off x="2438280" y="6356520"/>
            <a:ext cx="4343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sssit, Joachim Wackerow and Larry Ho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on Technical” Metada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80880" y="7617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&lt;?xml version="1.0" encoding="UTF-8"?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&lt;ns1:DDIInstance xmlns:r="ddi:reusable:3_0_CR"       ........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&lt;r:MaintainableID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&lt;r:ID&gt;</a:t>
            </a:r>
            <a:r>
              <a:rPr b="1" lang="en-US" sz="1500" spc="-1" strike="noStrike">
                <a:solidFill>
                  <a:srgbClr val="ff0000"/>
                </a:solidFill>
                <a:latin typeface="Calibri"/>
              </a:rPr>
              <a:t>testDDIFromSA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&lt;/r:ID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&lt;/r:MaintainableID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&lt;r:Citation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&lt;r:Title&gt;</a:t>
            </a:r>
            <a:r>
              <a:rPr b="1" lang="en-US" sz="1500" spc="-1" strike="noStrike">
                <a:solidFill>
                  <a:srgbClr val="ff0000"/>
                </a:solidFill>
                <a:latin typeface="Calibri"/>
              </a:rPr>
              <a:t>DDI file from SAS dataset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&lt;/r:Title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&lt;dce:DCElements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&lt;dc:title&gt;</a:t>
            </a:r>
            <a:r>
              <a:rPr b="1" lang="en-US" sz="1500" spc="-1" strike="noStrike">
                <a:solidFill>
                  <a:srgbClr val="ff0000"/>
                </a:solidFill>
                <a:latin typeface="Calibri"/>
              </a:rPr>
              <a:t>DDI file from SAS dataset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&lt;/dc:title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&lt;/dce:DCElements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&lt;/r:Citation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&lt;s:StudyUnit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&lt;r:MaintainableID&gt;&lt;r:ID&gt;</a:t>
            </a:r>
            <a:r>
              <a:rPr b="1" lang="en-US" sz="1500" spc="-1" strike="noStrike">
                <a:solidFill>
                  <a:srgbClr val="ff0000"/>
                </a:solidFill>
                <a:latin typeface="Calibri"/>
              </a:rPr>
              <a:t>StudyUnit_001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&lt;/r:ID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&lt;r:Version&gt;</a:t>
            </a:r>
            <a:r>
              <a:rPr b="1" lang="en-US" sz="1500" spc="-1" strike="noStrike">
                <a:solidFill>
                  <a:srgbClr val="ff0000"/>
                </a:solidFill>
                <a:latin typeface="Calibri"/>
              </a:rPr>
              <a:t>1.0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&lt;/r:Version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&lt;r:VersionResponsibility&gt;</a:t>
            </a:r>
            <a:r>
              <a:rPr b="1" lang="en-US" sz="1500" spc="-1" strike="noStrike">
                <a:solidFill>
                  <a:srgbClr val="ff0000"/>
                </a:solidFill>
                <a:latin typeface="Calibri"/>
              </a:rPr>
              <a:t>IPSR - The University of Kansa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&lt;/r:VersionResponsibility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&lt;/r:MaintainableID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Footer Placeholder 3"/>
          <p:cNvSpPr/>
          <p:nvPr/>
        </p:nvSpPr>
        <p:spPr>
          <a:xfrm>
            <a:off x="2438280" y="6356520"/>
            <a:ext cx="4343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sssit, Joachim Wackerow and Larry Ho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TextBox 4"/>
          <p:cNvSpPr/>
          <p:nvPr/>
        </p:nvSpPr>
        <p:spPr>
          <a:xfrm>
            <a:off x="1295280" y="54864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617"/>
                </a:solidFill>
                <a:latin typeface="Calibri"/>
              </a:rPr>
              <a:t>Can be lots more, including extensive explanatory 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chnical Metada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7200" y="761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l:Variabl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r:IdentifiableID&gt;&lt;r:ID&gt;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/r:ID&gt;&lt;r:Name&gt;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/r:Name&gt;&lt;/r:IdentifiableID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r:Label&gt;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Identification Numb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/r:Label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l:VariableDefinition&gt;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SAS varnum: 1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           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SAS idxusage SIMPLE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           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SAS transcode: y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           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SAS Integrity Constraints: Check(Where ID&gt;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           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Primary Key(Variables ID)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/l:VariableDefinition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l:ConceptReference&gt;&lt;r:Reference&gt;&lt;r:ID&gt;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/r:ID&gt;&lt;/r:Referenc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/l:ConceptReferenc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l:Representation 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l:NumericRepresentation type="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Doub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&gt;&lt;/l:NumericRepresentation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/l:Representation&gt;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/l:Variabl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Footer Placeholder 3"/>
          <p:cNvSpPr/>
          <p:nvPr/>
        </p:nvSpPr>
        <p:spPr>
          <a:xfrm>
            <a:off x="2438280" y="6356520"/>
            <a:ext cx="4343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sssit, Joachim Wackerow and Larry Ho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Box 5"/>
          <p:cNvSpPr/>
          <p:nvPr/>
        </p:nvSpPr>
        <p:spPr>
          <a:xfrm>
            <a:off x="5715000" y="5029200"/>
            <a:ext cx="3200400" cy="1191240"/>
          </a:xfrm>
          <a:prstGeom prst="rect">
            <a:avLst/>
          </a:prstGeom>
          <a:noFill/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7617"/>
                </a:solidFill>
                <a:latin typeface="Calibri"/>
              </a:rPr>
              <a:t>This identifier complexity allows for generating a URN which can be referenced in a global metadata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Rounded Rectangle 4"/>
          <p:cNvSpPr/>
          <p:nvPr/>
        </p:nvSpPr>
        <p:spPr>
          <a:xfrm>
            <a:off x="1219320" y="1066680"/>
            <a:ext cx="7772400" cy="381240"/>
          </a:xfrm>
          <a:prstGeom prst="roundRect">
            <a:avLst>
              <a:gd name="adj" fmla="val 16667"/>
            </a:avLst>
          </a:prstGeom>
          <a:solidFill>
            <a:srgbClr val="8eb4e3">
              <a:alpha val="43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6" name="Straight Arrow Connector 7"/>
          <p:cNvCxnSpPr/>
          <p:nvPr/>
        </p:nvCxnSpPr>
        <p:spPr>
          <a:xfrm flipH="1" flipV="1">
            <a:off x="8381520" y="1599480"/>
            <a:ext cx="45792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adata – implied from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0" y="990360"/>
            <a:ext cx="9144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l:Variable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r:IdentifiableID&gt;&lt;r:ID&gt;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fe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/r:ID&gt;&lt;r:Name&gt;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fe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/r:Name&gt;&lt;/r:IdentifiableID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r:Label&gt;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Fee in Euro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/r:Label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l:VariableDefinition&gt;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AS varnum: 9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                     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AS format: EUROX10.2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                     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AS transcode: y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&lt;/l:VariableDefinition&gt;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l:ConceptReference&gt;&lt;r:Reference&gt;&lt;r:ID&gt;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fe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/r:ID&gt;&lt;/r:Reference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/l:ConceptReference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l:Representation measurementUnit="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Currency-euro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" 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l:Role&gt;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AS format indicates: Writes numeric values with a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                    leading euro symbol (E), a period that separates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                    every three digits, and a comma that separates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                    the decimal frac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/l:Role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l:NumericRepresentation type="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"&gt;&lt;/l:NumericRepresentation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/l:Representation&gt;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/l:Variable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Footer Placeholder 3"/>
          <p:cNvSpPr/>
          <p:nvPr/>
        </p:nvSpPr>
        <p:spPr>
          <a:xfrm>
            <a:off x="2438280" y="6356520"/>
            <a:ext cx="4343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sssit, Joachim Wackerow and Larry Ho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 can be written in the XML to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lt;ds:ItemValue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lt;ds:VariableReference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lt;r:Reference&gt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&lt;r:ID&gt;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fe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lt;/r:ID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lt;/r:Reference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lt;/ds:VariableReference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lt;ds:Value&gt;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900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lt;/ds:Value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lt;/ds:ItemValue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Footer Placeholder 3"/>
          <p:cNvSpPr/>
          <p:nvPr/>
        </p:nvSpPr>
        <p:spPr>
          <a:xfrm>
            <a:off x="2438280" y="6356520"/>
            <a:ext cx="4343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sssit, Joachim Wackerow and Larry Ho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uld this be bett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  M       1             .1 11000 29feb52 11:49 Joe &lt;In the know&gt; Sch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  M       6.021e23      .2 10000 01jan72 14:01 Bill Hil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  F       6.02214139e23 .3  9000 08jun85 05:25 Donna O'Faun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4  M       6.02214149e23 .4  8000 25dec64 01:23 Rob "Bob" Cob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  m       6.02214159e23 .5  7000 15mar75 15:15 Tom Applebau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6  f       6.02214179e23 .6  6000 05jun07 08:09 Louise Mac&amp;Chee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7  m       6.02214209e23 .7  5000 11nov11 11:11 Jack Blac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8  F       6.02214219e23 .8  4000 01jan72 14:04 Jill Hil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9  m       -3            .9  3000 01apr99 03:03 Gno Avoca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Footer Placeholder 3"/>
          <p:cNvSpPr/>
          <p:nvPr/>
        </p:nvSpPr>
        <p:spPr>
          <a:xfrm>
            <a:off x="2438280" y="6356520"/>
            <a:ext cx="4343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sssit, Joachim Wackerow and Larry Ho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er Written Tags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nsion of Output Delivery System (ODS) by user-defined tags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put in ODS as a stream of ev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pture of events, triggering of specific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r-defined tagset defines template definitions for a targe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r-defined tagsets can be added to existing SAS ODS tags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Footer Placeholder 3"/>
          <p:cNvSpPr/>
          <p:nvPr/>
        </p:nvSpPr>
        <p:spPr>
          <a:xfrm>
            <a:off x="2438280" y="6356520"/>
            <a:ext cx="4343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sssit, Joachim Wackerow and Larry Ho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agset – SAS Events can trigger user ev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51920" y="1294920"/>
            <a:ext cx="89917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fine event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doc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ar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igger _parameter 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igger _head 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igger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_DDIInstance star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nish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igger _DDIInstance finish 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utlog '      DDI file written: ' BODY_NAME 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d 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Footer Placeholder 3"/>
          <p:cNvSpPr/>
          <p:nvPr/>
        </p:nvSpPr>
        <p:spPr>
          <a:xfrm>
            <a:off x="2438280" y="6356520"/>
            <a:ext cx="4343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sssit, Joachim Wackerow and Larry Ho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gset -  User Defined Ev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0" y="9140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fine event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_DDIInstan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rt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t '&lt;ddi:DDIInstance'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t ' xsi:schemaLocation="ddi:instance:' $ddi_version ' instance.xsd"'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..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'&gt;'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dent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tl '&lt;r:MaintainableID&gt;'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dent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tl '&lt;r:ID&gt;XX&lt;/r:ID&gt;'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dent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tl '&lt;/r:MaintainableID&gt;'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trigger _StudyUnit star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ish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igger _StudyUnit finish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dent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tl '&lt;/ddi:DDIInstance&gt;'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d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Footer Placeholder 3"/>
          <p:cNvSpPr/>
          <p:nvPr/>
        </p:nvSpPr>
        <p:spPr>
          <a:xfrm>
            <a:off x="2438280" y="6356520"/>
            <a:ext cx="4343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sssit, Joachim Wackerow and Larry Ho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2" name="Group 8"/>
          <p:cNvGrpSpPr/>
          <p:nvPr/>
        </p:nvGrpSpPr>
        <p:grpSpPr>
          <a:xfrm>
            <a:off x="3809880" y="2133720"/>
            <a:ext cx="5334120" cy="3614400"/>
            <a:chOff x="3809880" y="2133720"/>
            <a:chExt cx="5334120" cy="3614400"/>
          </a:xfrm>
        </p:grpSpPr>
        <p:sp>
          <p:nvSpPr>
            <p:cNvPr id="633" name="TextBox 4"/>
            <p:cNvSpPr/>
            <p:nvPr/>
          </p:nvSpPr>
          <p:spPr>
            <a:xfrm>
              <a:off x="4800240" y="2362320"/>
              <a:ext cx="4343760" cy="338580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7617"/>
                  </a:solidFill>
                  <a:latin typeface="Calibri"/>
                </a:rPr>
                <a:t>&lt;ddi:DDIInstance xsi:schemaLocation="ddi:instance:3_0_CR instance.xsd" xmlns:a=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7617"/>
                  </a:solidFill>
                  <a:latin typeface="Calibri"/>
                </a:rPr>
                <a:t>                    …</a:t>
              </a:r>
              <a:r>
                <a:rPr b="0" lang="en-US" sz="1800" spc="-1" strike="noStrike">
                  <a:solidFill>
                    <a:srgbClr val="ff7617"/>
                  </a:solidFill>
                  <a:latin typeface="Calibri"/>
                </a:rPr>
                <a:t>.                                                             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7617"/>
                  </a:solidFill>
                  <a:latin typeface="Calibri"/>
                </a:rPr>
                <a:t>  </a:t>
              </a:r>
              <a:r>
                <a:rPr b="0" lang="en-US" sz="1800" spc="-1" strike="noStrike">
                  <a:solidFill>
                    <a:srgbClr val="ff7617"/>
                  </a:solidFill>
                  <a:latin typeface="Calibri"/>
                </a:rPr>
                <a:t>&lt;r:MaintainableID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7617"/>
                  </a:solidFill>
                  <a:latin typeface="Calibri"/>
                </a:rPr>
                <a:t>    </a:t>
              </a:r>
              <a:r>
                <a:rPr b="0" lang="en-US" sz="1800" spc="-1" strike="noStrike">
                  <a:solidFill>
                    <a:srgbClr val="ff7617"/>
                  </a:solidFill>
                  <a:latin typeface="Calibri"/>
                </a:rPr>
                <a:t>&lt;r:ID&gt;XX&lt;/r:ID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7617"/>
                  </a:solidFill>
                  <a:latin typeface="Calibri"/>
                </a:rPr>
                <a:t>  </a:t>
              </a:r>
              <a:r>
                <a:rPr b="0" lang="en-US" sz="1800" spc="-1" strike="noStrike">
                  <a:solidFill>
                    <a:srgbClr val="ff7617"/>
                  </a:solidFill>
                  <a:latin typeface="Calibri"/>
                </a:rPr>
                <a:t>&lt;/r:MaintainableID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7617"/>
                  </a:solidFill>
                  <a:latin typeface="Calibri"/>
                </a:rPr>
                <a:t>  </a:t>
              </a:r>
              <a:r>
                <a:rPr b="0" lang="en-US" sz="1800" spc="-1" strike="noStrike">
                  <a:solidFill>
                    <a:srgbClr val="ff7617"/>
                  </a:solidFill>
                  <a:latin typeface="Calibri"/>
                </a:rPr>
                <a:t>&lt;s:StudyUni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7617"/>
                  </a:solidFill>
                  <a:latin typeface="Calibri"/>
                </a:rPr>
                <a:t>    </a:t>
              </a:r>
              <a:r>
                <a:rPr b="0" lang="en-US" sz="1800" spc="-1" strike="noStrike">
                  <a:solidFill>
                    <a:srgbClr val="ff7617"/>
                  </a:solidFill>
                  <a:latin typeface="Calibri"/>
                </a:rPr>
                <a:t>&lt;r:MaintainableID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7617"/>
                  </a:solidFill>
                  <a:latin typeface="Calibri"/>
                </a:rPr>
                <a:t>      </a:t>
              </a:r>
              <a:r>
                <a:rPr b="0" lang="en-US" sz="1800" spc="-1" strike="noStrike">
                  <a:solidFill>
                    <a:srgbClr val="ff7617"/>
                  </a:solidFill>
                  <a:latin typeface="Calibri"/>
                </a:rPr>
                <a:t>&lt;r:ID&gt;XX&lt;/r:ID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7617"/>
                  </a:solidFill>
                  <a:latin typeface="Calibri"/>
                </a:rPr>
                <a:t>    </a:t>
              </a:r>
              <a:r>
                <a:rPr b="0" lang="en-US" sz="1800" spc="-1" strike="noStrike">
                  <a:solidFill>
                    <a:srgbClr val="ff7617"/>
                  </a:solidFill>
                  <a:latin typeface="Calibri"/>
                </a:rPr>
                <a:t>&lt;/r:MaintainableID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Right Brace 5"/>
            <p:cNvSpPr/>
            <p:nvPr/>
          </p:nvSpPr>
          <p:spPr>
            <a:xfrm>
              <a:off x="3809880" y="2133720"/>
              <a:ext cx="457200" cy="220968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11880 h 2209680"/>
                <a:gd name="textAreaBottom" fmla="*/ 2197800 h 22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86"/>
                    <a:pt x="10800" y="372"/>
                  </a:cubicBezTo>
                  <a:lnTo>
                    <a:pt x="10800" y="10428"/>
                  </a:lnTo>
                  <a:cubicBezTo>
                    <a:pt x="10800" y="10614"/>
                    <a:pt x="16200" y="10800"/>
                    <a:pt x="21600" y="10800"/>
                  </a:cubicBezTo>
                  <a:cubicBezTo>
                    <a:pt x="16200" y="10800"/>
                    <a:pt x="10800" y="10986"/>
                    <a:pt x="10800" y="11172"/>
                  </a:cubicBezTo>
                  <a:lnTo>
                    <a:pt x="10800" y="21228"/>
                  </a:lnTo>
                  <a:cubicBezTo>
                    <a:pt x="10800" y="21414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35" name="Straight Arrow Connector 7"/>
            <p:cNvCxnSpPr>
              <a:stCxn id="634" idx="1"/>
            </p:cNvCxnSpPr>
            <p:nvPr/>
          </p:nvCxnSpPr>
          <p:spPr>
            <a:xfrm>
              <a:off x="4266000" y="3237480"/>
              <a:ext cx="533880" cy="1148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</p:grp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gset Stre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Footer Placeholder 2"/>
          <p:cNvSpPr/>
          <p:nvPr/>
        </p:nvSpPr>
        <p:spPr>
          <a:xfrm>
            <a:off x="2438280" y="6356520"/>
            <a:ext cx="4343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sssit, Joachim Wackerow and Larry Ho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Text Box 4"/>
          <p:cNvSpPr/>
          <p:nvPr/>
        </p:nvSpPr>
        <p:spPr>
          <a:xfrm>
            <a:off x="228600" y="1219320"/>
            <a:ext cx="70102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CONTENTS Procedu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lphabetic List of Variables and Attribu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#  Variable  Type   Len   Format   Lab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  V1           Num     4                   ZA Study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  V2           Num     6                   Respondent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 V3           Num     3      VA.       Count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  V4           Num     3      VB.       Good citizen: Always vote in elec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en-US" sz="1600" spc="-1" strike="noStrike">
                <a:solidFill>
                  <a:srgbClr val="ff0000"/>
                </a:solidFill>
                <a:latin typeface="Calibri"/>
              </a:rPr>
              <a:t>event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 r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5  V5           Num     3      VC.      Good citizen: Never try to evade tax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Rectangle 17"/>
          <p:cNvSpPr/>
          <p:nvPr/>
        </p:nvSpPr>
        <p:spPr>
          <a:xfrm>
            <a:off x="512640" y="3743280"/>
            <a:ext cx="304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0" name="Group 31"/>
          <p:cNvGrpSpPr/>
          <p:nvPr/>
        </p:nvGrpSpPr>
        <p:grpSpPr>
          <a:xfrm>
            <a:off x="664200" y="3971520"/>
            <a:ext cx="3755520" cy="2166480"/>
            <a:chOff x="664200" y="3971520"/>
            <a:chExt cx="3755520" cy="2166480"/>
          </a:xfrm>
        </p:grpSpPr>
        <p:sp>
          <p:nvSpPr>
            <p:cNvPr id="641" name="Text Box 12"/>
            <p:cNvSpPr/>
            <p:nvPr/>
          </p:nvSpPr>
          <p:spPr>
            <a:xfrm>
              <a:off x="1102320" y="4429080"/>
              <a:ext cx="253836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0000"/>
                  </a:solidFill>
                  <a:latin typeface="Calibri"/>
                </a:rPr>
                <a:t>Stream </a:t>
              </a:r>
              <a:r>
                <a:rPr b="1" lang="de-DE" sz="1600" spc="-1" strike="noStrike">
                  <a:solidFill>
                    <a:srgbClr val="ff0000"/>
                  </a:solidFill>
                  <a:latin typeface="Courier New"/>
                </a:rPr>
                <a:t>VariableSchem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Text Box 14"/>
            <p:cNvSpPr/>
            <p:nvPr/>
          </p:nvSpPr>
          <p:spPr>
            <a:xfrm>
              <a:off x="1066680" y="5114880"/>
              <a:ext cx="266724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0000"/>
                  </a:solidFill>
                  <a:latin typeface="Calibri"/>
                </a:rPr>
                <a:t>Stream </a:t>
              </a:r>
              <a:r>
                <a:rPr b="1" lang="de-DE" sz="1600" spc="-1" strike="noStrike">
                  <a:solidFill>
                    <a:srgbClr val="ff0000"/>
                  </a:solidFill>
                  <a:latin typeface="Courier New"/>
                </a:rPr>
                <a:t>CategorySchem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Text Box 15"/>
            <p:cNvSpPr/>
            <p:nvPr/>
          </p:nvSpPr>
          <p:spPr>
            <a:xfrm>
              <a:off x="1066680" y="5800680"/>
              <a:ext cx="335304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0000"/>
                  </a:solidFill>
                  <a:latin typeface="Calibri"/>
                </a:rPr>
                <a:t>Stream </a:t>
              </a:r>
              <a:r>
                <a:rPr b="1" lang="de-DE" sz="1600" spc="-1" strike="noStrike">
                  <a:solidFill>
                    <a:srgbClr val="ff0000"/>
                  </a:solidFill>
                  <a:latin typeface="Courier New"/>
                </a:rPr>
                <a:t>PhysicalDataProduc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44" name="AutoShape 18"/>
            <p:cNvCxnSpPr>
              <a:stCxn id="639" idx="2"/>
              <a:endCxn id="641" idx="1"/>
            </p:cNvCxnSpPr>
            <p:nvPr/>
          </p:nvCxnSpPr>
          <p:spPr>
            <a:xfrm flipH="1" rot="16200000">
              <a:off x="552240" y="4083840"/>
              <a:ext cx="626040" cy="4021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5" name="AutoShape 19"/>
            <p:cNvCxnSpPr>
              <a:stCxn id="639" idx="2"/>
              <a:endCxn id="642" idx="1"/>
            </p:cNvCxnSpPr>
            <p:nvPr/>
          </p:nvCxnSpPr>
          <p:spPr>
            <a:xfrm flipH="1" rot="16200000">
              <a:off x="209160" y="4426560"/>
              <a:ext cx="1312200" cy="4021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6" name="AutoShape 20"/>
            <p:cNvCxnSpPr>
              <a:stCxn id="639" idx="2"/>
              <a:endCxn id="643" idx="1"/>
            </p:cNvCxnSpPr>
            <p:nvPr/>
          </p:nvCxnSpPr>
          <p:spPr>
            <a:xfrm flipH="1" rot="16200000">
              <a:off x="-133560" y="4769640"/>
              <a:ext cx="1998000" cy="4021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47" name="Group 26"/>
          <p:cNvGrpSpPr/>
          <p:nvPr/>
        </p:nvGrpSpPr>
        <p:grpSpPr>
          <a:xfrm>
            <a:off x="3675240" y="4246560"/>
            <a:ext cx="4935240" cy="657000"/>
            <a:chOff x="3675240" y="4246560"/>
            <a:chExt cx="4935240" cy="657000"/>
          </a:xfrm>
        </p:grpSpPr>
        <p:sp>
          <p:nvSpPr>
            <p:cNvPr id="648" name="Text Box 5"/>
            <p:cNvSpPr/>
            <p:nvPr/>
          </p:nvSpPr>
          <p:spPr>
            <a:xfrm>
              <a:off x="4800600" y="4246560"/>
              <a:ext cx="3809880" cy="657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Calibri"/>
                </a:rPr>
                <a:t>DDI LogicalProduct - VariableSchem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Calibri"/>
                </a:rPr>
                <a:t>Definition of Variable V5 with label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49" name="AutoShape 22"/>
            <p:cNvCxnSpPr>
              <a:stCxn id="641" idx="3"/>
              <a:endCxn id="648" idx="1"/>
            </p:cNvCxnSpPr>
            <p:nvPr/>
          </p:nvCxnSpPr>
          <p:spPr>
            <a:xfrm flipV="1">
              <a:off x="3675240" y="4578120"/>
              <a:ext cx="1126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50" name="Group 27"/>
          <p:cNvGrpSpPr/>
          <p:nvPr/>
        </p:nvGrpSpPr>
        <p:grpSpPr>
          <a:xfrm>
            <a:off x="3733560" y="4946760"/>
            <a:ext cx="4876920" cy="657000"/>
            <a:chOff x="3733560" y="4946760"/>
            <a:chExt cx="4876920" cy="657000"/>
          </a:xfrm>
        </p:grpSpPr>
        <p:sp>
          <p:nvSpPr>
            <p:cNvPr id="651" name="Text Box 6"/>
            <p:cNvSpPr/>
            <p:nvPr/>
          </p:nvSpPr>
          <p:spPr>
            <a:xfrm>
              <a:off x="4800600" y="4946760"/>
              <a:ext cx="3809880" cy="657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Calibri"/>
                </a:rPr>
                <a:t>DDI LogicalProduct - CategorySchem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Calibri"/>
                </a:rPr>
                <a:t>Definition of VC used by variable V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52" name="AutoShape 23"/>
            <p:cNvCxnSpPr>
              <a:stCxn id="642" idx="3"/>
              <a:endCxn id="651" idx="1"/>
            </p:cNvCxnSpPr>
            <p:nvPr/>
          </p:nvCxnSpPr>
          <p:spPr>
            <a:xfrm>
              <a:off x="3733560" y="5273280"/>
              <a:ext cx="1067400" cy="5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53" name="Group 30"/>
          <p:cNvGrpSpPr/>
          <p:nvPr/>
        </p:nvGrpSpPr>
        <p:grpSpPr>
          <a:xfrm>
            <a:off x="4419720" y="5638680"/>
            <a:ext cx="4190760" cy="657000"/>
            <a:chOff x="4419720" y="5638680"/>
            <a:chExt cx="4190760" cy="657000"/>
          </a:xfrm>
        </p:grpSpPr>
        <p:sp>
          <p:nvSpPr>
            <p:cNvPr id="654" name="Text Box 7"/>
            <p:cNvSpPr/>
            <p:nvPr/>
          </p:nvSpPr>
          <p:spPr>
            <a:xfrm>
              <a:off x="4800600" y="5638680"/>
              <a:ext cx="3809880" cy="657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Calibri"/>
                </a:rPr>
                <a:t>DDI PhysicalDataProduct - Width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Calibri"/>
                </a:rPr>
                <a:t>Width definition of variable v5: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55" name="AutoShape 24"/>
            <p:cNvCxnSpPr>
              <a:stCxn id="643" idx="3"/>
              <a:endCxn id="654" idx="1"/>
            </p:cNvCxnSpPr>
            <p:nvPr/>
          </p:nvCxnSpPr>
          <p:spPr>
            <a:xfrm>
              <a:off x="4419720" y="5969160"/>
              <a:ext cx="3816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ow event triggers a cascade of event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riting to multiple stre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Footer Placeholder 2"/>
          <p:cNvSpPr/>
          <p:nvPr/>
        </p:nvSpPr>
        <p:spPr>
          <a:xfrm>
            <a:off x="2438280" y="6356520"/>
            <a:ext cx="4343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sssit, Joachim Wackerow and Larry Ho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TextBox 3"/>
          <p:cNvSpPr/>
          <p:nvPr/>
        </p:nvSpPr>
        <p:spPr>
          <a:xfrm>
            <a:off x="228600" y="1066680"/>
            <a:ext cx="5715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fine event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row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rt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 / if ^cmp( section, 'body' )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 /if cmp( $proc, 'Contents' )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 / if cmp( $leaf, 'Attributes' ) ;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dent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tl '&lt;OneAttribute&gt;'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lse / if cmp( $leaf, 'EngineHost' ) ;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dent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tl '&lt;OneEngineHost&gt;'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lse / if cmp( $leaf, 'Variables' ) ;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trigger _master_variabl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rt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ne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lse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ne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9" name="Group 8"/>
          <p:cNvGrpSpPr/>
          <p:nvPr/>
        </p:nvGrpSpPr>
        <p:grpSpPr>
          <a:xfrm>
            <a:off x="4875840" y="2819520"/>
            <a:ext cx="4268160" cy="1828440"/>
            <a:chOff x="4875840" y="2819520"/>
            <a:chExt cx="4268160" cy="1828440"/>
          </a:xfrm>
        </p:grpSpPr>
        <p:sp>
          <p:nvSpPr>
            <p:cNvPr id="660" name="TextBox 4"/>
            <p:cNvSpPr/>
            <p:nvPr/>
          </p:nvSpPr>
          <p:spPr>
            <a:xfrm>
              <a:off x="5105520" y="2819520"/>
              <a:ext cx="4038480" cy="11912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efine event _master_variable 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rt: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rigger _Concept start 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rigger _Variable start 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1" name="Straight Arrow Connector 6"/>
            <p:cNvCxnSpPr/>
            <p:nvPr/>
          </p:nvCxnSpPr>
          <p:spPr>
            <a:xfrm flipV="1">
              <a:off x="4875840" y="3428280"/>
              <a:ext cx="533880" cy="12200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</p:grp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7432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ere the &lt;l:Variable&gt; element is writt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151920" y="837720"/>
            <a:ext cx="3048120" cy="44197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fine event _Variable 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tar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lush 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open LogicalProduct 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utl '&lt;l:Variable&gt;' 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lush 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nish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lush 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pen LogicalProduct 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dent 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utl '&lt;r:IdentifiableID&gt;' 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dent 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ut '&lt;r:ID&gt;Variable_' 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ut </a:t>
            </a: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$variable_nam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utl '&lt;/r:ID&gt;' 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ut '&lt;r:Name&gt;' 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ut </a:t>
            </a:r>
            <a:r>
              <a:rPr b="0" lang="en-US" sz="1400" spc="-1" strike="noStrike">
                <a:solidFill>
                  <a:srgbClr val="4f81bd"/>
                </a:solidFill>
                <a:latin typeface="Calibri"/>
              </a:rPr>
              <a:t>$variable_nam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utl '&lt;/r:Name&gt;' 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dent 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3429000" y="1371240"/>
            <a:ext cx="3200400" cy="47545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utl '&lt;/r:IdentifiableID&gt;' 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ut '&lt;r:Label&gt;' 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ut </a:t>
            </a:r>
            <a:r>
              <a:rPr b="0" lang="en-US" sz="1500" spc="-1" strike="noStrike">
                <a:solidFill>
                  <a:srgbClr val="9bbb59"/>
                </a:solidFill>
                <a:latin typeface="Calibri"/>
              </a:rPr>
              <a:t>$variable_label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utl '&lt;/r:Label&gt;' 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utl '&lt;l:ConceptReference&gt;' 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dent 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utl '&lt;r:Reference&gt;' 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dent 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ut '&lt;r:ID&gt;Concept_' 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ut </a:t>
            </a:r>
            <a:r>
              <a:rPr b="0" lang="en-US" sz="1500" spc="-1" strike="noStrike">
                <a:solidFill>
                  <a:srgbClr val="c0504d"/>
                </a:solidFill>
                <a:latin typeface="Calibri"/>
              </a:rPr>
              <a:t>$variable_nam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utl '&lt;/r:ID&gt;' 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xdent 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utl '&lt;/r:Reference&gt;' 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xdent 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utl '&lt;/l:ConceptReference&gt;' 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xdent 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utl '&lt;/l:Variable&gt;' 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lush 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ose 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d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Footer Placeholder 2"/>
          <p:cNvSpPr/>
          <p:nvPr/>
        </p:nvSpPr>
        <p:spPr>
          <a:xfrm>
            <a:off x="2438280" y="6356520"/>
            <a:ext cx="4343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sssit, Joachim Wackerow and Larry Ho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6" name="Group 7"/>
          <p:cNvGrpSpPr/>
          <p:nvPr/>
        </p:nvGrpSpPr>
        <p:grpSpPr>
          <a:xfrm>
            <a:off x="5562720" y="2666880"/>
            <a:ext cx="3581280" cy="2864520"/>
            <a:chOff x="5562720" y="2666880"/>
            <a:chExt cx="3581280" cy="2864520"/>
          </a:xfrm>
        </p:grpSpPr>
        <p:sp>
          <p:nvSpPr>
            <p:cNvPr id="667" name="TextBox 6"/>
            <p:cNvSpPr/>
            <p:nvPr/>
          </p:nvSpPr>
          <p:spPr>
            <a:xfrm>
              <a:off x="6781680" y="2666880"/>
              <a:ext cx="2362320" cy="2864520"/>
            </a:xfrm>
            <a:prstGeom prst="rect">
              <a:avLst/>
            </a:prstGeom>
            <a:solidFill>
              <a:srgbClr val="d9d9d9"/>
            </a:solidFill>
            <a:ln w="572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&lt;l:Variable&gt;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&lt;r:IdentifiableID&gt;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&lt;r:ID&gt;Variable_</a:t>
              </a:r>
              <a:r>
                <a:rPr b="0" lang="en-US" sz="1400" spc="-1" strike="noStrike">
                  <a:solidFill>
                    <a:srgbClr val="ff0000"/>
                  </a:solidFill>
                  <a:latin typeface="Calibri"/>
                </a:rPr>
                <a:t>V3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&lt;/r:ID&gt;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&lt;r:Name&gt;</a:t>
              </a:r>
              <a:r>
                <a:rPr b="0" lang="en-US" sz="1400" spc="-1" strike="noStrike">
                  <a:solidFill>
                    <a:srgbClr val="4f81bd"/>
                  </a:solidFill>
                  <a:latin typeface="Calibri"/>
                </a:rPr>
                <a:t>V3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&lt;/r:Name&gt;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&lt;/r:IdentifiableID&gt;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&lt;r:Label&gt;</a:t>
              </a:r>
              <a:r>
                <a:rPr b="0" lang="en-US" sz="1400" spc="-1" strike="noStrike">
                  <a:solidFill>
                    <a:srgbClr val="9bbb59"/>
                  </a:solidFill>
                  <a:latin typeface="Calibri"/>
                </a:rPr>
                <a:t>Country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&lt;/r:Label&gt;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&lt;l:ConceptReference&gt;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&lt;r:Reference&gt;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&lt;r:ID&gt;Concept_</a:t>
              </a:r>
              <a:r>
                <a:rPr b="0" lang="pt-BR" sz="1400" spc="-1" strike="noStrike">
                  <a:solidFill>
                    <a:srgbClr val="c0504d"/>
                  </a:solidFill>
                  <a:latin typeface="Calibri"/>
                </a:rPr>
                <a:t>V3</a:t>
              </a: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&lt;/r:ID&gt;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&lt;/r:Reference&gt;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&lt;/l:ConceptReference&gt;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&lt;/l:Variable&gt;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8" name="Straight Arrow Connector 8"/>
            <p:cNvCxnSpPr/>
            <p:nvPr/>
          </p:nvCxnSpPr>
          <p:spPr>
            <a:xfrm>
              <a:off x="5562720" y="3581280"/>
              <a:ext cx="2667240" cy="8388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</p:grp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utputting the Stre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ine event _StudyUnit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is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igger _ConceptualComponent finish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utstream ConceptualComponent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lstream ConceptualComponent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igger _LogicalProduct finish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utstream LogicalProduct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lstream LogicalProduct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dent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tl '&lt;/s:StudyUnit&gt;'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ooter Placeholder 4"/>
          <p:cNvSpPr/>
          <p:nvPr/>
        </p:nvSpPr>
        <p:spPr>
          <a:xfrm>
            <a:off x="2438280" y="6356520"/>
            <a:ext cx="4343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sssit, Joachim Wackerow and Larry Ho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the Tags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0" y="1294920"/>
            <a:ext cx="91440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fbfbf"/>
                </a:solidFill>
                <a:latin typeface="Calibri"/>
              </a:rPr>
              <a:t>/* specifiying the DDI tagset as ODS destination and opening a file */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ds tagsets.DDI file='ddi.xml' encoding='utf-8'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roc contents data=library.mySASdata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un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roc report data=userFormats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un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roc freq data=library.mySASdata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un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fbfbf"/>
                </a:solidFill>
                <a:latin typeface="Calibri"/>
              </a:rPr>
              <a:t>/* closing the ODS destination for DDI */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ds tagsets.DDI close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Footer Placeholder 3"/>
          <p:cNvSpPr/>
          <p:nvPr/>
        </p:nvSpPr>
        <p:spPr>
          <a:xfrm>
            <a:off x="2438280" y="6356520"/>
            <a:ext cx="4343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sssit, Joachim Wackerow and Larry Ho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ntering Other Metadat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As Macro Variables - Cit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%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tationElement(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_C_Tit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%NRSTR(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DDI file from SAS datase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_C_SubTitle=%NRSTR( )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_C_AlternateTitle=%NRSTR( )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_C_Creator=%NRSTR( )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_C_Publisher=%NRSTR( )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_C_Contributor=%NRSTR( )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_C_PublicationDate=%NRSTR( )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_C_Language=%NRSTR( )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_C_InternationalIdentifierType=%NRSTR( )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_C_InternationalIdentifier=%NRSTR( )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_C_Copyright=%NRSTR( )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CE_subject=%NRSTR( )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CE_description=%NRSTR( )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CE_date=%NRSTR( )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CE_type=%NRSTR( )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CE_format=%NRSTR( )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CE_identifier=%NRSTR( )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CE_source=%NRSTR( )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CE_relation=%NRSTR( )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CE_coverage=%NRSTR( )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CE_rights=%NRSTR( 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Footer Placeholder 3"/>
          <p:cNvSpPr/>
          <p:nvPr/>
        </p:nvSpPr>
        <p:spPr>
          <a:xfrm>
            <a:off x="2438280" y="6356520"/>
            <a:ext cx="4343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sssit, Joachim Wackerow and Larry Ho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 – Entered Manual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152280" y="1294920"/>
            <a:ext cx="883944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%QuestionItem(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QuestionItem_I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%NRSTR(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avocad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QuestionItem_Tex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%NRSTR(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How many avocados should th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                                 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respondent have?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QuestionItem_CodeSche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%NRSTR(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Codes_AVOCADONUMB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Footer Placeholder 3"/>
          <p:cNvSpPr/>
          <p:nvPr/>
        </p:nvSpPr>
        <p:spPr>
          <a:xfrm>
            <a:off x="2438280" y="6356520"/>
            <a:ext cx="4343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sssit, Joachim Wackerow and Larry Ho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about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ooter Placeholder 3"/>
          <p:cNvSpPr/>
          <p:nvPr/>
        </p:nvSpPr>
        <p:spPr>
          <a:xfrm>
            <a:off x="2438280" y="6356520"/>
            <a:ext cx="4343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sssit, Joachim Wackerow and Larry Ho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9" name="Picture 4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75196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terprise Guide Proj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Footer Placeholder 3"/>
          <p:cNvSpPr/>
          <p:nvPr/>
        </p:nvSpPr>
        <p:spPr>
          <a:xfrm>
            <a:off x="2438280" y="6356520"/>
            <a:ext cx="4343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sssit, Joachim Wackerow and Larry Ho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3" name="Picture 2" descr=""/>
          <p:cNvPicPr/>
          <p:nvPr/>
        </p:nvPicPr>
        <p:blipFill>
          <a:blip r:embed="rId1"/>
          <a:stretch/>
        </p:blipFill>
        <p:spPr>
          <a:xfrm>
            <a:off x="1235160" y="1116000"/>
            <a:ext cx="6289560" cy="48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Footer Placeholder 2"/>
          <p:cNvSpPr/>
          <p:nvPr/>
        </p:nvSpPr>
        <p:spPr>
          <a:xfrm>
            <a:off x="2438280" y="6356520"/>
            <a:ext cx="4343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sssit, Joachim Wackerow and Larry Ho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2" descr=""/>
          <p:cNvPicPr/>
          <p:nvPr/>
        </p:nvPicPr>
        <p:blipFill>
          <a:blip r:embed="rId1"/>
          <a:stretch/>
        </p:blipFill>
        <p:spPr>
          <a:xfrm>
            <a:off x="351000" y="1536840"/>
            <a:ext cx="5829120" cy="44672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2" descr=""/>
          <p:cNvPicPr/>
          <p:nvPr/>
        </p:nvPicPr>
        <p:blipFill>
          <a:blip r:embed="rId2"/>
          <a:srcRect l="15024" t="16680" r="75872" b="73733"/>
          <a:stretch/>
        </p:blipFill>
        <p:spPr>
          <a:xfrm>
            <a:off x="6635880" y="1366920"/>
            <a:ext cx="2216160" cy="1789200"/>
          </a:xfrm>
          <a:prstGeom prst="rect">
            <a:avLst/>
          </a:prstGeom>
          <a:ln w="0">
            <a:noFill/>
          </a:ln>
        </p:spPr>
      </p:pic>
      <p:cxnSp>
        <p:nvCxnSpPr>
          <p:cNvPr id="688" name="Straight Arrow Connector 6"/>
          <p:cNvCxnSpPr/>
          <p:nvPr/>
        </p:nvCxnSpPr>
        <p:spPr>
          <a:xfrm flipV="1">
            <a:off x="1596960" y="2090520"/>
            <a:ext cx="4904640" cy="3909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Footer Placeholder 2"/>
          <p:cNvSpPr/>
          <p:nvPr/>
        </p:nvSpPr>
        <p:spPr>
          <a:xfrm>
            <a:off x="2438280" y="6356520"/>
            <a:ext cx="4343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sssit, Joachim Wackerow and Larry Ho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1" name="Picture 2" descr=""/>
          <p:cNvPicPr/>
          <p:nvPr/>
        </p:nvPicPr>
        <p:blipFill>
          <a:blip r:embed="rId1"/>
          <a:srcRect l="15024" t="16680" r="75872" b="73733"/>
          <a:stretch/>
        </p:blipFill>
        <p:spPr>
          <a:xfrm>
            <a:off x="369720" y="892080"/>
            <a:ext cx="1097280" cy="88596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2" descr=""/>
          <p:cNvPicPr/>
          <p:nvPr/>
        </p:nvPicPr>
        <p:blipFill>
          <a:blip r:embed="rId2"/>
          <a:stretch/>
        </p:blipFill>
        <p:spPr>
          <a:xfrm>
            <a:off x="1695600" y="884160"/>
            <a:ext cx="7119720" cy="545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ibnames, etc – Where are the files and format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Footer Placeholder 2"/>
          <p:cNvSpPr/>
          <p:nvPr/>
        </p:nvSpPr>
        <p:spPr>
          <a:xfrm>
            <a:off x="2438280" y="6356520"/>
            <a:ext cx="4343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sssit, Joachim Wackerow and Larry Ho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rcRect l="16258" t="10928" r="13736" b="56551"/>
          <a:stretch/>
        </p:blipFill>
        <p:spPr>
          <a:xfrm>
            <a:off x="0" y="3174840"/>
            <a:ext cx="9028080" cy="321480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2" descr=""/>
          <p:cNvPicPr/>
          <p:nvPr/>
        </p:nvPicPr>
        <p:blipFill>
          <a:blip r:embed="rId2"/>
          <a:srcRect l="15024" t="25893" r="68025" b="66836"/>
          <a:stretch/>
        </p:blipFill>
        <p:spPr>
          <a:xfrm>
            <a:off x="185760" y="1557360"/>
            <a:ext cx="4124160" cy="13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Picture 2" descr=""/>
          <p:cNvPicPr/>
          <p:nvPr/>
        </p:nvPicPr>
        <p:blipFill>
          <a:blip r:embed="rId1"/>
          <a:srcRect l="15106" t="10842" r="2449" b="53079"/>
          <a:stretch/>
        </p:blipFill>
        <p:spPr>
          <a:xfrm>
            <a:off x="0" y="3144960"/>
            <a:ext cx="9136080" cy="3065400"/>
          </a:xfrm>
          <a:prstGeom prst="rect">
            <a:avLst/>
          </a:prstGeom>
          <a:ln w="0">
            <a:noFill/>
          </a:ln>
        </p:spPr>
      </p:pic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irst Time – Create Datasets for Entering “Other” Meta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Footer Placeholder 2"/>
          <p:cNvSpPr/>
          <p:nvPr/>
        </p:nvSpPr>
        <p:spPr>
          <a:xfrm>
            <a:off x="2438280" y="6356520"/>
            <a:ext cx="4343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sssit, Joachim Wackerow and Larry Ho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0" name="Picture 2" descr=""/>
          <p:cNvPicPr/>
          <p:nvPr/>
        </p:nvPicPr>
        <p:blipFill>
          <a:blip r:embed="rId2"/>
          <a:srcRect l="15024" t="33116" r="68025" b="52069"/>
          <a:stretch/>
        </p:blipFill>
        <p:spPr>
          <a:xfrm>
            <a:off x="366840" y="1165320"/>
            <a:ext cx="2698560" cy="18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ter General Meta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Footer Placeholder 2"/>
          <p:cNvSpPr/>
          <p:nvPr/>
        </p:nvSpPr>
        <p:spPr>
          <a:xfrm>
            <a:off x="2438280" y="6356520"/>
            <a:ext cx="4343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sssit, Joachim Wackerow and Larry Ho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3" name="Picture 2" descr=""/>
          <p:cNvPicPr/>
          <p:nvPr/>
        </p:nvPicPr>
        <p:blipFill>
          <a:blip r:embed="rId1"/>
          <a:srcRect l="15590" t="15134" r="22246" b="55813"/>
          <a:stretch/>
        </p:blipFill>
        <p:spPr>
          <a:xfrm>
            <a:off x="0" y="3014640"/>
            <a:ext cx="8777160" cy="244152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2" descr=""/>
          <p:cNvPicPr/>
          <p:nvPr/>
        </p:nvPicPr>
        <p:blipFill>
          <a:blip r:embed="rId2"/>
          <a:srcRect l="20866" t="33116" r="70360" b="59226"/>
          <a:stretch/>
        </p:blipFill>
        <p:spPr>
          <a:xfrm>
            <a:off x="220680" y="1195560"/>
            <a:ext cx="1397160" cy="93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nter Question Text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Footer Placeholder 2"/>
          <p:cNvSpPr/>
          <p:nvPr/>
        </p:nvSpPr>
        <p:spPr>
          <a:xfrm>
            <a:off x="2438280" y="6356520"/>
            <a:ext cx="4343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sssit, Joachim Wackerow and Larry Ho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rcRect l="20866" t="40281" r="70360" b="50578"/>
          <a:stretch/>
        </p:blipFill>
        <p:spPr>
          <a:xfrm>
            <a:off x="190440" y="743040"/>
            <a:ext cx="1397160" cy="111600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2" descr=""/>
          <p:cNvPicPr/>
          <p:nvPr/>
        </p:nvPicPr>
        <p:blipFill>
          <a:blip r:embed="rId2"/>
          <a:srcRect l="15531" t="14456" r="24912" b="56261"/>
          <a:stretch/>
        </p:blipFill>
        <p:spPr>
          <a:xfrm>
            <a:off x="0" y="3678120"/>
            <a:ext cx="8994600" cy="2632320"/>
          </a:xfrm>
          <a:prstGeom prst="rect">
            <a:avLst/>
          </a:prstGeom>
          <a:ln w="0">
            <a:noFill/>
          </a:ln>
        </p:spPr>
      </p:pic>
      <p:sp>
        <p:nvSpPr>
          <p:cNvPr id="709" name="TextBox 5"/>
          <p:cNvSpPr/>
          <p:nvPr/>
        </p:nvSpPr>
        <p:spPr>
          <a:xfrm>
            <a:off x="201600" y="2552760"/>
            <a:ext cx="50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nd Labels pulled from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AS dataset being converted to DD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TextBox 6"/>
          <p:cNvSpPr/>
          <p:nvPr/>
        </p:nvSpPr>
        <p:spPr>
          <a:xfrm>
            <a:off x="4803840" y="2571840"/>
            <a:ext cx="39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estion text to be hand ente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unning This Branch Makes the DDI3 Fi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Footer Placeholder 2"/>
          <p:cNvSpPr/>
          <p:nvPr/>
        </p:nvSpPr>
        <p:spPr>
          <a:xfrm>
            <a:off x="2438280" y="6356520"/>
            <a:ext cx="4343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sssit, Joachim Wackerow and Larry Ho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3" name="Picture 2" descr=""/>
          <p:cNvPicPr/>
          <p:nvPr/>
        </p:nvPicPr>
        <p:blipFill>
          <a:blip r:embed="rId1"/>
          <a:srcRect l="16667" t="27121" r="53444" b="21920"/>
          <a:stretch/>
        </p:blipFill>
        <p:spPr>
          <a:xfrm>
            <a:off x="844560" y="878040"/>
            <a:ext cx="4711680" cy="537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DI3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Footer Placeholder 2"/>
          <p:cNvSpPr/>
          <p:nvPr/>
        </p:nvSpPr>
        <p:spPr>
          <a:xfrm>
            <a:off x="2438280" y="6356520"/>
            <a:ext cx="4343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sssit, Joachim Wackerow and Larry Ho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6" name="Picture 4" descr=""/>
          <p:cNvPicPr/>
          <p:nvPr/>
        </p:nvPicPr>
        <p:blipFill>
          <a:blip r:embed="rId1"/>
          <a:srcRect l="19521" t="0" r="0" b="0"/>
          <a:stretch/>
        </p:blipFill>
        <p:spPr>
          <a:xfrm>
            <a:off x="554040" y="822240"/>
            <a:ext cx="8209080" cy="549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ttp://www.ddialliance.org/index.htm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oter Placeholder 3"/>
          <p:cNvSpPr/>
          <p:nvPr/>
        </p:nvSpPr>
        <p:spPr>
          <a:xfrm>
            <a:off x="2438280" y="6356520"/>
            <a:ext cx="4343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sssit, Joachim Wackerow and Larry Ho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9" name="Picture 4" descr=""/>
          <p:cNvPicPr/>
          <p:nvPr/>
        </p:nvPicPr>
        <p:blipFill>
          <a:blip r:embed="rId1"/>
          <a:stretch/>
        </p:blipFill>
        <p:spPr>
          <a:xfrm>
            <a:off x="1330200" y="844560"/>
            <a:ext cx="6134400" cy="537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ata in these forms leave us with ques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0" y="3352320"/>
            <a:ext cx="8686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is sex coded?  How is fee scaled? Is percent a propor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sines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what currency is fee?   What does avocado mea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cove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re do the data live? Who created? When? Where? Wh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Footer Placeholder 3"/>
          <p:cNvSpPr/>
          <p:nvPr/>
        </p:nvSpPr>
        <p:spPr>
          <a:xfrm>
            <a:off x="2438280" y="6356520"/>
            <a:ext cx="4343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sssit, Joachim Wackerow and Larry Ho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4" descr=""/>
          <p:cNvPicPr/>
          <p:nvPr/>
        </p:nvPicPr>
        <p:blipFill>
          <a:blip r:embed="rId1"/>
          <a:srcRect l="0" t="41833" r="12658" b="12007"/>
          <a:stretch/>
        </p:blipFill>
        <p:spPr>
          <a:xfrm>
            <a:off x="228600" y="762120"/>
            <a:ext cx="86724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456840" y="1371240"/>
            <a:ext cx="38098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ARRY HOY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itute for Policy and Social Researc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versity of Kans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541 Lilac Road, 607 Blak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wrence, KS 66044-3177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+1 785-864-911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LarryHoyle@ku.ed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ww.ipsr.ku.ed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4495680" y="1371240"/>
            <a:ext cx="41911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JOACHIM WACKER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SIS-ZUMA (Centre for Survey Research and Methodology, German Social Science Infrastructure Servic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2,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8159 Mannhei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rm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+49 621 1246 26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joachim.wackerow@gesis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ww.gesis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Footer Placeholder 2"/>
          <p:cNvSpPr/>
          <p:nvPr/>
        </p:nvSpPr>
        <p:spPr>
          <a:xfrm>
            <a:off x="2438280" y="6356520"/>
            <a:ext cx="4343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sssit, Joachim Wackerow and Larry Ho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se questions are addressed by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eta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about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times categorized as “Technical” and “Busines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per vs electron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uctured vs unstructu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Footer Placeholder 4"/>
          <p:cNvSpPr/>
          <p:nvPr/>
        </p:nvSpPr>
        <p:spPr>
          <a:xfrm>
            <a:off x="2438280" y="6356520"/>
            <a:ext cx="4343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sssit, Joachim Wackerow and Larry Ho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chine Actionable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eta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just in machine readable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 well defined structu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ld be XML or could be properties of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rogram can use this 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adata can be used in various combin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ented as a codebo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fered as a Web serv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Footer Placeholder 4"/>
          <p:cNvSpPr/>
          <p:nvPr/>
        </p:nvSpPr>
        <p:spPr>
          <a:xfrm>
            <a:off x="2438280" y="6356520"/>
            <a:ext cx="4343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sssit, Joachim Wackerow and Larry Ho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ata Documentation Initiative (DDI)</a:t>
            </a:r>
            <a:br>
              <a:rPr sz="4000"/>
            </a:br>
            <a:r>
              <a:rPr b="0" lang="en-US" sz="4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ddialliance.org/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tandard for the compilation, presentation, and exchange of documentation for datasets in the social and behavioral sci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ML ba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gun 1995, first public release 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sion 3 planned for Ju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fe-cycle of data  - from conception to re-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adata and data can be included in the same 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Footer Placeholder 3"/>
          <p:cNvSpPr/>
          <p:nvPr/>
        </p:nvSpPr>
        <p:spPr>
          <a:xfrm>
            <a:off x="2438280" y="6356520"/>
            <a:ext cx="4343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sssit, Joachim Wackerow and Larry Ho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fe Cycle of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Footer Placeholder 3"/>
          <p:cNvSpPr/>
          <p:nvPr/>
        </p:nvSpPr>
        <p:spPr>
          <a:xfrm>
            <a:off x="2438280" y="6356520"/>
            <a:ext cx="4343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sssit, Joachim Wackerow and Larry Ho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5" name="Picture 2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283600" cy="373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17:27:53Z</dcterms:created>
  <dc:creator>lhoyle</dc:creator>
  <dc:description/>
  <dc:language>en-US</dc:language>
  <cp:lastModifiedBy>lhoyle</cp:lastModifiedBy>
  <dcterms:modified xsi:type="dcterms:W3CDTF">2008-05-21T19:39:09Z</dcterms:modified>
  <cp:revision>133</cp:revision>
  <dc:subject/>
  <dc:title>Exporting SAS Datasets to DDI 3 XML files Data, metadata, and more metadata</dc:title>
</cp:coreProperties>
</file>